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044-997B-4A9A-9F9F-815B3685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172-0539-4635-B6BC-BC00FE12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577-13F5-450D-8A6C-3804CD83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065-D32B-4A19-8A8A-D5A4B462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D53-9CCB-48E6-A865-8364A8FB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617-05BA-46BD-B15B-B34DD2C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923-9C07-4243-9D7B-9355CC56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11D-5A5D-4287-9890-980AD5A3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C39-FFD7-4064-B21F-0436DBAE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CC2-D0AA-4FBC-A70B-F999B3E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7F0-DF0B-44CF-B7F0-A96993A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27C-CD26-4C13-B115-D672AEFD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DC6-DDC0-4F45-8C89-5A1C5D528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3333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83280" y="49132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ah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17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517000">
            <a:off x="380520" y="1371600"/>
            <a:ext cx="8534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ese's Peanut Butter Cup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680" y="6248520"/>
            <a:ext cx="77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Freeplay Musi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, Chocolate Lust, 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Feb. 27, 2012,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327672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882000">
            <a:off x="4267080" y="4648320"/>
            <a:ext cx="1447920" cy="1585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6840" y="548640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"/>
              </a:rPr>
              <a:t>Invented by: harry burnett re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cc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Reese"/>
          <p:cNvPicPr/>
          <p:nvPr/>
        </p:nvPicPr>
        <p:blipFill>
          <a:blip r:embed="rId1"/>
          <a:stretch/>
        </p:blipFill>
        <p:spPr>
          <a:xfrm rot="1117800">
            <a:off x="380520" y="685800"/>
            <a:ext cx="3544920" cy="278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5791320"/>
            <a:ext cx="74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Lemelson MI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 Program. Reese’s Peanut Butter Cups. 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Feb 23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바탕"/>
              </a:rPr>
              <a:t>2012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바탕"/>
              </a:rPr>
              <a:t>http://web.mit.edu/invent/iow/bayli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ese’s Cups are a world wide known candy. They’re delicious and melt in your mouth, and not in your hand. I think I want one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Reese"/>
          <p:cNvPicPr/>
          <p:nvPr/>
        </p:nvPicPr>
        <p:blipFill>
          <a:blip r:embed="rId2"/>
          <a:stretch/>
        </p:blipFill>
        <p:spPr>
          <a:xfrm rot="20971200">
            <a:off x="4952880" y="205704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Reese’s Peanut Butter C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se’s Peanut Butter Cups were made in the 1920’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side of the delicious candy there is creamy peanut butter but on the outside there is a perfect coating of milk choco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other versions of the Reese’s such as Reese’s Pieces, Big Reese’s, Carmel Reese’s, and many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shey’s purchased the Reese’s company for $23.5 million dol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Harry Burnett Re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Burnett Reese was born in Frosty H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on May 24, 187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ung boy grew up on a working f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ot married in the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an unbelievable number of kids (19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in 1903 he moved his family from Frosty Hill to Woodb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35:56Z</dcterms:created>
  <dc:creator>install</dc:creator>
  <dc:description/>
  <dc:language>en-US</dc:language>
  <cp:lastModifiedBy>install</cp:lastModifiedBy>
  <dcterms:modified xsi:type="dcterms:W3CDTF">2012-03-09T15:26:53Z</dcterms:modified>
  <cp:revision>8</cp:revision>
  <dc:subject/>
  <dc:title>Slide 1</dc:title>
</cp:coreProperties>
</file>